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wmf" ContentType="image/x-wmf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637-7960-42A4-A621-3BA2DAA4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238-0607-475A-B2A9-E000B64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AA8-380E-4D80-85B3-7B77F53A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43E-2E88-4010-80C1-1BCC0369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BE11-C1F9-412C-B68C-E8AE3D4D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5DC-04DD-4105-824F-DCADB04E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2C8B-EBC1-4DFC-BB52-A234E3F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391D-77A7-4C45-8414-08DA6D6E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A8B0-52E9-4240-9CC3-CB6C3A8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2B7A-148C-41A7-8CFA-B84DE37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53E-9EC5-47BE-BA9C-E129766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AAE-D88B-4AE1-9011-22D53789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1F9-5BA7-4B07-BF6A-70742D2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0517-976D-4109-879F-F241EAF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5450-825A-432A-A5EB-43B4749C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64A2-3266-4C42-8894-17E2F69F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4C5D-1F30-4797-BD47-0AB1EC20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ACD-DC52-49F3-801E-A82D770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694-70FF-4042-9055-3840301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645-60F4-4B8F-8660-BDEE552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CDD-39B6-4EC3-8B70-49E86C3B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DB9-7EA5-470E-847C-93F254C5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930-5C6B-4C8C-8B6F-B88845C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D5E-B943-49EB-82D1-514C18F2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B546-8428-402D-99DE-7BED08F11A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0E40-5B66-4F83-A0C3-91669116EE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82000" cy="1009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"/>
              </a:rPr>
              <a:t>QUIZ</a:t>
            </a:r>
            <a:r>
              <a:rPr b="0" lang="en-US" sz="3000" spc="-1" strike="noStrike">
                <a:solidFill>
                  <a:srgbClr val="ffffff"/>
                </a:solidFill>
                <a:latin typeface="comic"/>
              </a:rPr>
              <a:t> </a:t>
            </a:r>
            <a:br>
              <a:rPr sz="3000"/>
            </a:br>
            <a:r>
              <a:rPr b="1" lang="en-US" sz="4600" spc="-1" strike="noStrike">
                <a:solidFill>
                  <a:srgbClr val="ffffff"/>
                </a:solidFill>
                <a:latin typeface="comic"/>
              </a:rPr>
              <a:t>“Welcome to English-speaking countries”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498760" cy="153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2768400" cy="160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203640" y="3429000"/>
            <a:ext cx="2787480" cy="15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2521080" cy="158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5796000" y="4797360"/>
            <a:ext cx="26636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7904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is the capital of Wal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72920"/>
            <a:ext cx="307656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Cardif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inbur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lf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5" descr="Ливерпуль"/>
          <p:cNvPicPr/>
          <p:nvPr/>
        </p:nvPicPr>
        <p:blipFill>
          <a:blip r:embed="rId2"/>
          <a:stretch/>
        </p:blipFill>
        <p:spPr>
          <a:xfrm>
            <a:off x="3492360" y="2079720"/>
            <a:ext cx="5423040" cy="406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"/>
          <p:cNvPicPr/>
          <p:nvPr/>
        </p:nvPicPr>
        <p:blipFill>
          <a:blip r:embed="rId3"/>
          <a:stretch/>
        </p:blipFill>
        <p:spPr>
          <a:xfrm>
            <a:off x="7002360" y="1449360"/>
            <a:ext cx="14414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at is the capital of New Zealand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Well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une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ck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6958080" y="1359000"/>
            <a:ext cx="1827000" cy="108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07NZ_5270_Wellington_Lambton_Harbor"/>
          <p:cNvPicPr/>
          <p:nvPr/>
        </p:nvPicPr>
        <p:blipFill>
          <a:blip r:embed="rId3"/>
          <a:stretch/>
        </p:blipFill>
        <p:spPr>
          <a:xfrm>
            <a:off x="3132000" y="2754360"/>
            <a:ext cx="39085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at sports was invented by the Canadian?</a:t>
            </a: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9036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ase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Soc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T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846000" cy="4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sketball_net"/>
          <p:cNvPicPr/>
          <p:nvPr/>
        </p:nvPicPr>
        <p:blipFill>
          <a:blip r:embed="rId2"/>
          <a:stretch/>
        </p:blipFill>
        <p:spPr>
          <a:xfrm>
            <a:off x="3860640" y="2492280"/>
            <a:ext cx="177804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ain_baseball"/>
          <p:cNvPicPr/>
          <p:nvPr/>
        </p:nvPicPr>
        <p:blipFill>
          <a:blip r:embed="rId3"/>
          <a:stretch/>
        </p:blipFill>
        <p:spPr>
          <a:xfrm>
            <a:off x="6380280" y="1773360"/>
            <a:ext cx="1755720" cy="21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ro_evolution_soccer_2008_large_2"/>
          <p:cNvPicPr/>
          <p:nvPr/>
        </p:nvPicPr>
        <p:blipFill>
          <a:blip r:embed="rId4"/>
          <a:stretch/>
        </p:blipFill>
        <p:spPr>
          <a:xfrm>
            <a:off x="5948280" y="4076640"/>
            <a:ext cx="294660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xsp_tennis_lesson"/>
          <p:cNvPicPr/>
          <p:nvPr/>
        </p:nvPicPr>
        <p:blipFill>
          <a:blip r:embed="rId5"/>
          <a:stretch/>
        </p:blipFill>
        <p:spPr>
          <a:xfrm>
            <a:off x="2997360" y="4653000"/>
            <a:ext cx="2330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is the capital of Canada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6960" y="2727000"/>
            <a:ext cx="381312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oron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Ottaw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Ontari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Montrea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Здание Парламента, Оттава, Канада"/>
          <p:cNvPicPr/>
          <p:nvPr/>
        </p:nvPicPr>
        <p:blipFill>
          <a:blip r:embed="rId1"/>
          <a:stretch/>
        </p:blipFill>
        <p:spPr>
          <a:xfrm>
            <a:off x="4140360" y="2575080"/>
            <a:ext cx="4724280" cy="314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84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6640" y="233280"/>
            <a:ext cx="846108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Times New Roman"/>
              </a:rPr>
              <a:t>Which holiday is celebrated on the 4</a:t>
            </a:r>
            <a:r>
              <a:rPr b="1" lang="en-US" sz="42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4200" spc="-1" strike="noStrike">
                <a:solidFill>
                  <a:srgbClr val="ff6600"/>
                </a:solidFill>
                <a:latin typeface="Times New Roman"/>
              </a:rPr>
              <a:t> Thursday of November?</a:t>
            </a:r>
            <a:r>
              <a:rPr b="1" lang="en-US" sz="4600" spc="-1" strike="noStrike">
                <a:solidFill>
                  <a:srgbClr val="ff66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3476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allowe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Independence D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Thanksgiving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rmot’s Day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812000" y="114948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turkey_large"/>
          <p:cNvPicPr/>
          <p:nvPr/>
        </p:nvPicPr>
        <p:blipFill>
          <a:blip r:embed="rId2"/>
          <a:stretch/>
        </p:blipFill>
        <p:spPr>
          <a:xfrm>
            <a:off x="5148360" y="3933720"/>
            <a:ext cx="2050920" cy="167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305493"/>
          <p:cNvPicPr/>
          <p:nvPr/>
        </p:nvPicPr>
        <p:blipFill>
          <a:blip r:embed="rId3"/>
          <a:stretch/>
        </p:blipFill>
        <p:spPr>
          <a:xfrm>
            <a:off x="6732720" y="2133720"/>
            <a:ext cx="1944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The President of the USA lives in ________.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4335480" cy="23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A White house 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Pennsylvania Aven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Texas Str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Washington Squar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w_house"/>
          <p:cNvPicPr/>
          <p:nvPr/>
        </p:nvPicPr>
        <p:blipFill>
          <a:blip r:embed="rId1"/>
          <a:stretch/>
        </p:blipFill>
        <p:spPr>
          <a:xfrm>
            <a:off x="4572000" y="2168640"/>
            <a:ext cx="4354560" cy="3268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96372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0920" y="593280"/>
            <a:ext cx="855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In what state is Hollywood situate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40920" y="2619000"/>
            <a:ext cx="409572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ew Y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liforn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lori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180280" y="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ollywood"/>
          <p:cNvPicPr/>
          <p:nvPr/>
        </p:nvPicPr>
        <p:blipFill>
          <a:blip r:embed="rId2"/>
          <a:stretch/>
        </p:blipFill>
        <p:spPr>
          <a:xfrm>
            <a:off x="5021280" y="2919240"/>
            <a:ext cx="38718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4931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ich is the largest city in Australi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72920"/>
            <a:ext cx="303048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Syd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Canber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Brisb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Melbou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icture puzzle piece 2"/>
          <p:cNvPicPr/>
          <p:nvPr/>
        </p:nvPicPr>
        <p:blipFill>
          <a:blip r:embed="rId2"/>
          <a:srcRect l="48753" t="21796" r="2293" b="11459"/>
          <a:stretch/>
        </p:blipFill>
        <p:spPr>
          <a:xfrm>
            <a:off x="7542360" y="998640"/>
            <a:ext cx="1439640" cy="838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6" descr="Australia,_Sydney_-_Opera_House"/>
          <p:cNvPicPr/>
          <p:nvPr/>
        </p:nvPicPr>
        <p:blipFill>
          <a:blip r:embed="rId3"/>
          <a:stretch/>
        </p:blipFill>
        <p:spPr>
          <a:xfrm>
            <a:off x="3762360" y="16383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brisbane"/>
          <p:cNvPicPr/>
          <p:nvPr/>
        </p:nvPicPr>
        <p:blipFill>
          <a:blip r:embed="rId4"/>
          <a:stretch/>
        </p:blipFill>
        <p:spPr>
          <a:xfrm>
            <a:off x="5587920" y="4459320"/>
            <a:ext cx="35560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493120" cy="16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ich is the capital of Australia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573280"/>
            <a:ext cx="32115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Canber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Per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Syd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Melbou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picture puzzle piece 2"/>
          <p:cNvPicPr/>
          <p:nvPr/>
        </p:nvPicPr>
        <p:blipFill>
          <a:blip r:embed="rId2"/>
          <a:srcRect l="48753" t="21796" r="2293" b="11459"/>
          <a:stretch/>
        </p:blipFill>
        <p:spPr>
          <a:xfrm>
            <a:off x="7453440" y="1179360"/>
            <a:ext cx="1439640" cy="838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16" descr="tour_Canberra"/>
          <p:cNvPicPr/>
          <p:nvPr/>
        </p:nvPicPr>
        <p:blipFill>
          <a:blip r:embed="rId3"/>
          <a:stretch/>
        </p:blipFill>
        <p:spPr>
          <a:xfrm>
            <a:off x="3716280" y="2784600"/>
            <a:ext cx="5249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493120" cy="17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Great Britain is __________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23640"/>
            <a:ext cx="77724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, Scotland, Wales and Northern Ire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England, Scotland and W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 and Scot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 on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5" descr="istockphoto_1239375_great_britain_uk_flag_map_vector"/>
          <p:cNvPicPr/>
          <p:nvPr/>
        </p:nvPicPr>
        <p:blipFill>
          <a:blip r:embed="rId2"/>
          <a:stretch/>
        </p:blipFill>
        <p:spPr>
          <a:xfrm>
            <a:off x="6372360" y="401472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6:42:06Z</dcterms:created>
  <dc:creator>Фролов Д.Г. - методист отдела краеведения РЦДЮТиК</dc:creator>
  <dc:description>Данная игра может использоваться как образец при подготовке занятий с воспитанниками. Позволяет в интересной форме оценить уровень знаний (по мотивам телепередачи "Своя игра")Создание макета очень простое: таблица с вопросами+ гиперссыл</dc:description>
  <dc:language>en-US</dc:language>
  <cp:lastModifiedBy>Светлана</cp:lastModifiedBy>
  <dcterms:modified xsi:type="dcterms:W3CDTF">2024-05-29T11:44:48Z</dcterms:modified>
  <cp:revision>78</cp:revision>
  <dc:subject>Знание родного края</dc:subject>
  <dc:title>Краеведческая игра</dc:title>
</cp:coreProperties>
</file>